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325-39D3-4AC6-B975-E3E7E07C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4F6-29B0-4118-A028-3488470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B86-6C06-47A2-A815-CF414ECC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E8D-EC06-4FE5-A7DF-0D16790F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EED-1528-4BD8-9054-E703A110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A91-29E2-46F6-9671-EA4656BF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039-C98E-4F55-8B98-42553D7C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D13-7627-41F2-9606-D253904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D47-18AD-41C0-A7FA-636C01D3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5A2-D026-4365-9B2A-AA128C5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715-2461-4013-838C-19E23B7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D10-EE6A-44FC-992E-C54DB85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ED4B-F626-4636-BD66-0694A484F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3 Takého ja Priateľ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ého ja Priateľa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 pri mne vždycky st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úť sa smiem na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ňa seba v obeť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u krv keď za mňa vyli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enie mi vydoby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golgotskom kríži zomr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om raz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lásku neochvej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ocením nikdy d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osťou jemu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ďačiť sa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ísť už vlastnou cest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le v jeho šľapaj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tále bude pri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m mať nikdy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bi i na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mnou bdie neu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dobré praje 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sile chcem ísť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vpred až k výši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ím, že raz dovedie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Kráľom on je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1:09:20Z</dcterms:modified>
  <cp:revision>20</cp:revision>
  <dc:subject/>
  <dc:title>Je veľký náš Pán, on slávy je Kráľ Nech do všetkých strán  spev vrúcnych znie chvál.</dc:title>
</cp:coreProperties>
</file>